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B55-BFBB-42FA-8FB0-D4958830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D9C-22A0-400E-8A75-A69DA798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A1DF-2B0D-4FE0-A092-EDDD4394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134-1036-4174-91D2-142F09B7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0F4-AF8B-4AEC-90E7-109E8F13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EB17-180B-4CF5-A8F8-41C0E31A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BF5-FF36-47E3-98FD-992BF6B6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4E9-F9A9-4F9C-BB89-3D183515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7ED-38A7-4FE5-B45D-E62C47CE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473-BE97-4CD2-93FA-CDA60F48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C59-CA01-44DA-AA89-3858FC59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01A-441A-4839-9F36-F3A4F10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7285-3666-4637-B16B-895FC2B9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762120"/>
            <a:ext cx="5790960" cy="21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kateboard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epic poem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mes Sp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3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429000" y="0"/>
            <a:ext cx="2133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REDI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669960"/>
            <a:ext cx="6553440" cy="62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o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Kick Push - Lupe Fia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ritten, Directed, Produced and Everything 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ames Sp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ank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mily Toth- for creativ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mmy Spence- without her I would not have been here to make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457200"/>
            <a:ext cx="3124440" cy="37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and paper grip tap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der rubber s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more I kic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quicker it ro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3276720"/>
            <a:ext cx="3505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el every imperfec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f the road I g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lowly becomes part of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rid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2886120" cy="2886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8600" y="4419720"/>
            <a:ext cx="510552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62720" y="838080"/>
            <a:ext cx="335268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crouch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all into my groove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nk about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next mov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3809880"/>
            <a:ext cx="35049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pe I won'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ust my li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ying to land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s kick flip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43200" y="22096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990720"/>
            <a:ext cx="48765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lide right foot back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ush down in rear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ve left foot up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pull it near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3762360"/>
            <a:ext cx="388620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l these though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un so fast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ust complete th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fore this moments passed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838080"/>
            <a:ext cx="3429000" cy="28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638680" y="609480"/>
            <a:ext cx="42674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these seconds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the ai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try to a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o much flai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886200"/>
            <a:ext cx="48765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fa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"OH NO!", I cry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’m no professional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kater guy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232416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47920" y="380880"/>
            <a:ext cx="3905280" cy="26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533520"/>
            <a:ext cx="350496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ife flashes 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r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to the pave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ith my fac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3505320"/>
            <a:ext cx="449568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luctantly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 I ble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get back u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n my feet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00400" y="228600"/>
            <a:ext cx="4657680" cy="31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3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80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95680" y="533520"/>
            <a:ext cx="46483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it out some bloo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n I swear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nfortunately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o much I care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3505320"/>
            <a:ext cx="37335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ump back on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 try aga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s time I hope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at I wi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450"/>
                            </p:stCondLst>
                            <p:childTnLst>
                              <p:par>
                                <p:cTn id="128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9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7280" y="150840"/>
            <a:ext cx="2893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ouched down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restar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aybe if I give i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ust a little more he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1143000"/>
            <a:ext cx="40896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581280"/>
            <a:ext cx="3657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o through the move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just a bit more gentle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lowing through me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h so natural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0"/>
            <a:ext cx="4419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wheels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afe on the 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y hear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gins to poun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457200"/>
            <a:ext cx="4038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et planted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n woo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at tric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just goo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2241720"/>
            <a:ext cx="4419360" cy="4389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553080" y="4175280"/>
            <a:ext cx="35053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etter than tha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t was amaz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h how I thin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 will love sk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45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9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0:06:44Z</dcterms:created>
  <dc:creator>spence</dc:creator>
  <dc:description/>
  <dc:language>en-US</dc:language>
  <cp:lastModifiedBy>spence</cp:lastModifiedBy>
  <dcterms:modified xsi:type="dcterms:W3CDTF">2008-02-27T02:09:38Z</dcterms:modified>
  <cp:revision>2</cp:revision>
  <dc:subject/>
  <dc:title>Slide 1</dc:title>
</cp:coreProperties>
</file>